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7146"/>
        <c:axId val="97499074"/>
      </c:barChart>
      <c:catAx>
        <c:axId val="13567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99074"/>
        <c:crosses val="autoZero"/>
        <c:auto val="1"/>
        <c:lblAlgn val="ctr"/>
        <c:lblOffset val="100"/>
        <c:noMultiLvlLbl val="0"/>
      </c:catAx>
      <c:valAx>
        <c:axId val="97499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7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304-08C5-4071-918F-305D351F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6F1-7E9B-41A0-9FA6-2F153F5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53E-AA11-4AC1-8836-8BF25DE2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1D2-247D-448A-92C5-A0382EBA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4CC-7E87-4B31-8B06-E39DD8A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8F5-BB38-46A9-8576-08DC7493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9EB-35AB-4FFF-A59C-68187AF0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0F1-544A-467A-810D-F2A84F7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1BE-E46B-4173-AA0F-3A02454D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DEF-E816-4EE6-BC4D-49AB5CA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952-A25A-4B0B-897D-5387C88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EDD-2BAF-443E-AD78-F9EBE8D8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1C948-90F5-4825-A9A5-0158652DE8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