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6517"/>
        <c:axId val="56624611"/>
      </c:barChart>
      <c:catAx>
        <c:axId val="6456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24611"/>
        <c:crosses val="autoZero"/>
        <c:auto val="1"/>
        <c:lblAlgn val="ctr"/>
        <c:lblOffset val="100"/>
        <c:noMultiLvlLbl val="0"/>
      </c:catAx>
      <c:valAx>
        <c:axId val="56624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6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7EE-DEA4-487C-A4E7-167C76D8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832-EC50-40EE-A557-2BE1F440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C6D-B8F7-4673-B07E-64425973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F8E-3B94-44B2-A8C2-459B27FF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1D0-16FE-4874-9183-9E06CE18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BD4-DB2B-4505-BA2B-B94C4920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26D-B2D6-4F35-831F-255B4DF5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E71-0291-42E8-A240-D448027D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8B6-BE23-4667-A6E8-ACE86952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401-8D8B-464B-BB48-4DB58598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829-2D6D-44E8-8BD3-00DB2D69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C4E-C0FC-4FBF-9819-AC7DA16E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9B08E-C433-4816-848C-5F1D6B844A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