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22537"/>
        <c:axId val="8927379"/>
      </c:barChart>
      <c:catAx>
        <c:axId val="18522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7379"/>
        <c:crosses val="autoZero"/>
        <c:auto val="1"/>
        <c:lblAlgn val="ctr"/>
        <c:lblOffset val="100"/>
        <c:noMultiLvlLbl val="0"/>
      </c:catAx>
      <c:valAx>
        <c:axId val="892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2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F58-2B21-4F0D-A0B1-041FA326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866-E46B-43D3-82A1-9D3A789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43D-5733-4681-B2B9-359F3386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C22-5704-4BD7-8026-9378F504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729-E68D-4C51-9245-49B5F0C1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DB8-E296-4E3F-A981-6D27BE3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1B2-DE2D-4615-95F4-7C5E51C0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C52-65BF-450F-9DD6-9FDF76A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C09-9EA0-47AD-B80F-5AC3332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4AE-358F-4404-B69F-277B884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C8A-A6C6-4647-8DED-19748D3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F45-426F-4CF1-BB6B-2B4BC44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AC0F-BAE5-43FF-AF89-A2415092F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