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512853"/>
        <c:axId val="56942043"/>
      </c:barChart>
      <c:catAx>
        <c:axId val="955128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42043"/>
        <c:crosses val="autoZero"/>
        <c:auto val="1"/>
        <c:lblAlgn val="ctr"/>
        <c:lblOffset val="100"/>
        <c:noMultiLvlLbl val="0"/>
      </c:catAx>
      <c:valAx>
        <c:axId val="569420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128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3213-D7E5-4625-A4EC-B7F6F4C5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18FC-615F-4E7B-9169-E2B8C801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ACDF-CF04-4CB1-9EC6-E368B058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5727-CF37-4587-A929-274D4FE7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CC67-7F74-4652-B7B3-256C5120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D12C-7B4F-4A14-9C43-8F2E0C46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F76F-595A-45B5-BA43-658CDE0B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FBCB-DB86-4312-A37F-EA2BE7AB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1444-677C-4DE2-AA60-281167CC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FD4B-D47D-461C-8927-C20DB573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F797-3755-432A-BD82-16C7ABF3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33A8-E69B-4805-907C-C1E3BB9C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243DF-81B1-4B35-9164-6ABBE07AF8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