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03701"/>
        <c:axId val="95723372"/>
      </c:barChart>
      <c:catAx>
        <c:axId val="84503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23372"/>
        <c:crosses val="autoZero"/>
        <c:auto val="1"/>
        <c:lblAlgn val="ctr"/>
        <c:lblOffset val="100"/>
        <c:noMultiLvlLbl val="0"/>
      </c:catAx>
      <c:valAx>
        <c:axId val="95723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03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6D8-1BF6-4A01-8DF7-9E333A63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8DC-116A-4F3E-8014-54425EF6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3CC-034D-41F6-A915-D9E3F54E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694-4C77-4C8E-818F-A9950F4B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C24-89BD-4627-943E-082649FF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E2F-190C-489F-B5A7-FB922BE7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A6A-8C3E-4529-ADB8-67E9A1DD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050-12D0-4868-BCA9-C02B4240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492-7BA0-4F9E-8951-41F4269A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F46-A49E-4B68-A64A-84DC545E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A0E-BB80-4254-B222-F83DCC5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555-DDA1-4649-8B48-99837F4D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3EA7D-3D91-4E18-8C69-6050D89CC2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