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198724"/>
        <c:axId val="47225085"/>
      </c:barChart>
      <c:catAx>
        <c:axId val="471987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25085"/>
        <c:crosses val="autoZero"/>
        <c:auto val="1"/>
        <c:lblAlgn val="ctr"/>
        <c:lblOffset val="100"/>
        <c:noMultiLvlLbl val="0"/>
      </c:catAx>
      <c:valAx>
        <c:axId val="472250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1987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6A38-F86B-4B09-986D-715564A5C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781F-8512-45AB-AC89-BAA38190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27A9-87EA-4C16-8034-5C197F049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0704-5727-4F16-A266-D314E1EB3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271F-FF56-4654-8423-20754B04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EF89-B8F9-4058-826E-3CE617E2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4E7C-B6CE-438A-8FBE-C042CD52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B464-2115-494B-A495-F8CA6EDC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179E-F2AD-43B5-AD59-F3E2B7C5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6375-3908-4307-9E28-9FDD2028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D69A-13D2-4527-800F-2E600BAD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D7A8-19FC-416A-8948-690C3DF3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E184F-4E68-43AF-9E9A-4E46F3C23B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