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32364"/>
        <c:axId val="32166183"/>
      </c:barChart>
      <c:catAx>
        <c:axId val="63332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66183"/>
        <c:crosses val="autoZero"/>
        <c:auto val="1"/>
        <c:lblAlgn val="ctr"/>
        <c:lblOffset val="100"/>
        <c:noMultiLvlLbl val="0"/>
      </c:catAx>
      <c:valAx>
        <c:axId val="32166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32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AFA-1C0B-412A-A9A8-D2E02D2B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B1C-C3E5-4F26-8581-42F40F30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8DC-D003-45EB-BC70-D00F1759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C14-0ACE-4078-9423-A925D756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185-94FC-4F4B-A652-4A15C7BA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EDC-45E8-477E-A2B2-6B387459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DAB-0FDC-4E32-9A17-AE1D457B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F7C-1019-47C9-9F25-1BB611C9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4825-6D05-4D69-9A92-928CE5D6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EBA-6B62-4DEC-B492-3706AF19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14F-1B17-45DA-9D9C-7442F854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1B6-9C97-4962-BBEC-B82C39E1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5B131-8A38-4C6F-86A8-1AEDAE54DB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